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D72D-3213-4B09-8D63-04F03248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CAC8-E67E-40B4-B58B-6FD75712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F2B3-CFC6-4B00-AF52-8250AB30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663B-15DE-43F1-9E03-F9246B1D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7D5-D2CC-4D91-B7B3-BBAFC4F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598C-BF1A-41A9-B181-C11E562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7DC-EC92-4068-A3AF-352C47E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B91-598B-4495-B5EC-D82511EE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970-2ACE-4ABB-823E-FBF3AEE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B249-FEBE-4DD7-9978-25E155A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84C-76E2-44A6-9BEC-22B4E18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6A9A-EF43-4AA2-82DE-9235224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375-0147-4FE6-8B32-2D73D20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F0E-60A5-493C-A6F1-2B8A0AB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8C2F-735B-4515-B217-CE39FFDC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5FE1-5527-4952-9AF9-3B6BC86B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80F1-F193-4FFA-B1D2-30937E76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0B60-31E4-4CC2-9003-C3F6F86C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351E-DEC7-4D50-9295-EABD8F5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FACF-D85C-4262-8348-30697603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A25C-59FF-4B5F-AE39-AB385D3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8209-DCE7-4C49-8188-BEEDC7B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0395-7ABA-4FE3-AEB7-ABB51FD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0B97-8E3C-4F08-B726-EF056B8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446-3F6D-47F9-9DFA-94A8622C9B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FA2-A778-40C0-8D57-4A515AEE7D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8800" y="2214720"/>
            <a:ext cx="785484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Дискуссия</a:t>
            </a:r>
            <a:br>
              <a:rPr sz="2500"/>
            </a:b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«Трудная ситуация на уроке и ваш выход из неё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84000" y="188640"/>
            <a:ext cx="6335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Люди уча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когда они уча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                  </a:t>
            </a: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e01561_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5000760" y="55008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социальный педагог Малькова Ю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ница математики молодая. Пришла проводить урок алгебры в 8-м классе. Она заметила, что под столом учителя сидит ученик, но сделала вид, что не видит, и быстро, в темпе, начала урок, но так, чтобы все работали. Учащиеся с мест выкрикивали: «Коряга под столом!» (так дразнили мальчик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ПЕРВЫ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й школу местом, не совсем достойным применения твоих выдающихся способностей, местом, куда тебя как бы сослали. Школа не нуждается в твоем снисхо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себя, свой образ. Учитель индивидуален, иначе не может быть речи о твор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мыкайся в своем учительстве. Если учитель — только учитель, то скучно. Ты должен быть интересен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Ы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 о комплексном характере учительского труда. Все имеет значение, все нужно: и эрудиция, и методика, и внеклассная работа, и психология общения, и любовь к детям, и дисцип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ЫИ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счастливым.   Будь оптимистом! Верь! Ужасно, когда учитель не видит ничего хорошего ни в настоящем, ни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честным и правд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очень высоко ценят ч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СЕД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и юмор в общении с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бойся смешного, не бойся быть смешным. Другое дело, если над тобой смеются постоянно, если ты  вообще смешон — это в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ВОС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естественным, не притворяйся, не старайся казаться умнее и лучше, чем ты есть. Играй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ДЕВЯТЫ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оображай о себе больше того, кто ты есть на самом  деле. Знай себе цену и будь скром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СЯТЫЙ СОВЕ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ети гражданскую позицию. Помни, что у тебя есть дети, и эта позиция нужна. Гражданская позиция прежде нравстве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413638"/>
          <p:cNvPicPr/>
          <p:nvPr/>
        </p:nvPicPr>
        <p:blipFill>
          <a:blip r:embed="rId1"/>
          <a:stretch/>
        </p:blipFill>
        <p:spPr>
          <a:xfrm>
            <a:off x="7380360" y="5013360"/>
            <a:ext cx="14238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263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«Знания и умения учителя – </a:t>
            </a: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залог творчества и усп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1844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j0335739"/>
          <p:cNvPicPr/>
          <p:nvPr/>
        </p:nvPicPr>
        <p:blipFill>
          <a:blip r:embed="rId1"/>
          <a:stretch/>
        </p:blipFill>
        <p:spPr>
          <a:xfrm>
            <a:off x="3059280" y="3357720"/>
            <a:ext cx="331308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 причины конфликтов между               педагогом и обучающими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480" y="164304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 оценка личности обучающегося, а не конкретного поступ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   оценка   поступка   учащегося   без   разбора   его   мотивов,   учёта   лич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 педагога прогнозировать поведение учеников на уроке, или заня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 отношений, сложившихся между педагогом и отдельными ученикам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ые   качества   педагога   (раздражительность, самодовольство, беспомощность и 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 воздействия на личность           школьника в конфликтной 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ва возбужденных человека не в состоянии прийти к соглас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 ЗАДЕРЖКА  РЕАК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ЕРЕВОД  РЕАК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РАЦИОНАЛИЗАЦИЯ СИТУА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 преодоления конфликтной ситуации педагогу необходим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Раскрыть её пр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Не допустить перехода в длительный             конфл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Завладеть ситуацией, использовать её          познавательные и воспитательные 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 Найти пути предупреждения или погашения конфли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 Поддержать даже «плохих» воспитанников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Педагогические ситу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ая учительница, впервые вошедшая в класс к шестиклассникам, увидела, что дети приветствуют ее, стоя на стульях. Замешательство длилось несколько секун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2139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ная ситуация. С 1 сентября в школе начала работать по совместительству молодая учительница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ервых дней у нее начался конфликт с учащимися 7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первой четверти, когда учительница пришла на урок, она увидела, что все учащиеся стоят, повернувшись спиной к двери, и тихо поют песню «Летка-Ен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К  уроку русского языка учащиеся натерли доску салом. Я  об этом догадался, так как доска блестела. Класс с нетерпением ждал, когда я начну писать на дос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учитель истории. Урок в 10-м классе. Класс совершенно неуправляем. Перед уроком учитель волнуется, заглядывает в дверь – галдят. Он заходит, здоровается – на него ноль эмоций. Тогда он вышел из класса, подумал и поступил следующим образ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39:20Z</dcterms:created>
  <dc:creator>Admin</dc:creator>
  <dc:description/>
  <dc:language>en-US</dc:language>
  <cp:lastModifiedBy>Admin</cp:lastModifiedBy>
  <dcterms:modified xsi:type="dcterms:W3CDTF">2025-10-20T06:12:10Z</dcterms:modified>
  <cp:revision>40</cp:revision>
  <dc:subject/>
  <dc:title>Семинар-практикум «Организация работы с молодыми и начинающими специалистами»</dc:title>
</cp:coreProperties>
</file>